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12B-9C50-4FCD-916E-A55135F4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9C2-0E47-4F48-A7E9-7F6F9226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CA9-E7B1-4C8B-9F2D-C08B98C9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B77-2CC5-4898-B1EB-AEEFD02C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65E9-8FC5-4EF4-9C87-57E58841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D6E1-0E3C-4EF9-B6A8-C4D0E0BC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9B63-3D6A-4DAB-8DE6-94A97E9E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A10E-33FB-4B3A-AC87-57C3CD01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CFB0-5527-4A5D-8AE6-A6FD6FF7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D302-FF23-422E-A8FD-4C199916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8211-E8AE-43BE-9B1B-9565C794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5F2-9E61-45A8-9DBF-9384BBE7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91B1-F583-4927-AC8E-73904983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D149-3A90-4434-B489-CCF0A7AD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BEC7-7EC7-4957-92F8-1E072025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6E9B-0581-4130-B693-B8C6797D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6AA7-F695-41EE-8EAE-DF9B9D1D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8BF78-81EB-43B8-8481-C464277A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645B-5E99-4224-8640-757CCA7A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DC09E-6350-4D32-B098-25C500A4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D7E8-3995-43F4-9CEB-5546D03A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9A06-4E7F-41E7-8039-015185CA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048-DA70-46CF-8038-3970CFD2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9D01B-7277-4807-8AD7-C07D4BF2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1C52-FBF1-42C3-BB0F-0726E388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30A1-E2A0-4A01-B0E9-DFB6D4BF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769B5-F23E-44EF-86C0-F35DC059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22393-0490-4280-9626-3762F052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D8899-5B0D-4A2A-86AB-CB31CDCB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1310-EFAE-4528-ACA2-25713861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CE2E4-A854-450C-AFFB-4368BD08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FF92F-077F-410A-AE65-21DE59F7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73CE0-B912-4058-8560-52DCDFBD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8E8-234E-4BE7-856C-24048951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34FA-9AC7-4797-8B65-26F9F67D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AB58-8D9B-4C71-A3FC-D91EA6C6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C3EE-DE7A-4C07-B5D7-60A21B84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41C1A-B4BA-4600-98F2-98D45EBA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EC034-CE54-4F26-934E-72A100AA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0CE7C-244F-4154-A020-B4E6D740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FF4A3-3472-4D7B-AE5C-B307B8F9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874B-F00F-47F6-85A5-BEF48F6F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03FF3-7A31-4CA0-9960-76965F41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A51C3-5555-4365-A4D5-9BC54E42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7F8-C157-455A-9850-99974899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996D3-B540-4500-9523-8742B8A4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2C9E8-8795-43B4-B0B3-18469E20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A1D53-A2CA-4BD0-BA56-F076F6B2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5772B-34DE-4A12-8C17-3E9DE8CF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949E7-3E05-4E34-B657-2C37D49B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A337D-B8C6-4ECC-8951-BEA9B1A6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5E148-F461-4D6B-9194-26051F70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97C09-EC51-440B-BBED-6CB84D8A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B53FD-0BD0-4D5B-9E5D-061B1012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C5E89-0CD0-4B13-9993-FFB89AC3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460C-B069-4988-BA19-C7715E16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CE01F-B87E-4298-A367-B36938B8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55AC7-63E0-4476-96DB-3445A246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925AF-9BE8-4C5A-980B-09FB075D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A5697-A6DC-4216-A769-3009B607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E0BF5-CC9D-430B-8E37-CD86F69E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2DEBA-1536-4843-8AD2-171118BC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FE7B9-CB68-48A4-BF55-EF64E0DB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A26DE-601F-48DF-B65C-128521C3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FD252-AAE9-4559-B6EC-BEFEED40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44403-07F8-4B40-9AD9-59C9804A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08A-831A-43E9-B577-92E1184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9887-8638-420C-8248-B7D3AA07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FF5D3-CA94-4C22-8DB0-C58585FF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FDA8-F991-49E5-83E4-9D4EA261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F5229-A0C2-47AF-B215-AD1447AB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587E2-D928-4A57-A3F5-DF989B56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CB6A9-473B-4741-8B77-5459B2E4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F9EF8-DA67-4B29-A2EB-CAE09CFC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D06FC-BAA7-4B2D-8C12-1E73380F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5B38-3C08-4B7B-8858-1B1CFA45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CED32-2B4A-413E-8CC3-EF26B14A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5F9C-96BF-401D-AFE5-77E014DB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314A6-141E-48AE-9755-24FA1CA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80D75-035D-47CD-BFDC-1FA5AAD8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AA0FD-F620-4EDB-91A1-1C7D7746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6AC33-CB2D-4390-A88B-D75ACB95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41CFE-8B5E-4F49-BD9A-8F1B9C87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57B-6D7F-4B51-BB76-043CF6AE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3972-D327-46FF-9518-581CBCFD44F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EA9E-3A88-4B9B-AD56-67805EED506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9ED9-C7F1-4EAD-8157-54B6EF523080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981A-AEEF-4975-BA3A-FA1DFD2DBB3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0166-0BC8-4407-A888-7F6FFDEEAC0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4200-5CFF-4A3E-9055-3B35EED4FBF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63D3-EEBF-4389-936E-7E2E8B2AD41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3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rown Elementary sold tickets to their school carnival.  They sold 136 tickets to the cakewalk, 159 tickets to the beanbag throw and 98 tickets to the pie-throwing contest.  The carnival started at 6:00 P.M. and closed 3 hours later.  A total of 321 people attended the carniv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obert’s family bought 14 tickets at school the day before the carnival.  They bought another 28 tickets at the carnival.  They had 6 tickets left over after the carniv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228600" y="15238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is a good estimate of the total number of tickets sold at the carnival for the cakewalk, beanbag throw and pie-throwing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523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many tickets in all did Robert’s family use at the carnival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152280" y="15235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cakewalk tickets were sold 1 to a person, how many people that attended the carnival did not buy a ticket for the cakewalk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523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w many more tickets were sold for the cakewalk than the pie-throwing contest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523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f 167 of the people who went to the carnival were students, how many were not students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3:53:13Z</dcterms:created>
  <dc:creator> </dc:creator>
  <dc:description/>
  <dc:language>en-US</dc:language>
  <cp:lastModifiedBy>127partidak</cp:lastModifiedBy>
  <dcterms:modified xsi:type="dcterms:W3CDTF">2011-09-30T22:22:25Z</dcterms:modified>
  <cp:revision>4</cp:revision>
  <dc:subject/>
  <dc:title>Information</dc:title>
</cp:coreProperties>
</file>